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325C-FC5F-411C-B217-9B2E4CD5B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D8F8-9823-4A51-932E-1D0489E93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CE38-5D9B-4F35-B720-27C2F85A5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AC66-FC43-47AD-880A-F244160C1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68F9-1783-4711-8E43-F2E3A19E8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96E6-44B5-4182-96E2-F960C07DF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3AAB-8EF6-4D78-AA4C-5EC5E10D9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BE4D-0E21-4A66-8D23-ED9BF252C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61E9-4582-4A9D-87C8-CB6BADB8B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class follow the transfer of heat and energy that causes atmospheric cir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A94D-1D9D-41A0-A389-13919C130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43D-0C43-4935-9201-8C7AC32B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67A-5739-4E9C-98CE-6ED602BD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A4B-AA5D-42B2-9563-CFB17D41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087-2EBA-4934-97AD-9AB84D2B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FA5-F82B-4A42-B115-35F2B5CB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500-C917-4BA2-8838-E0747FE0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561-DF8A-468E-B9C1-AE795983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5D3-425B-4F29-B95A-5836F951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D5E-CBCA-4EBF-91DF-6C3D5D10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C99-E3B0-427C-8AFF-B0DED8E0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144-DE6E-4CF3-B573-B2526B43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5ED-B8A1-4087-B69A-A706A719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577D-CAA0-44BE-ACB2-0733A9C59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The Greenhouse Eff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Explain how natural processes involving greenhouse gases cause warming of Earth’s atmosphe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Gravitational energy, thermal energy, and/or chemical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3. Matter moves and changes to return a system to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bf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0" y="122544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kinetic energy of molecul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Energy Transf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0" y="6443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jason.org/uploads/PublicUploads/CuteSoft/EnergyTransfer.j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EnergyTransfer.jpg"/>
          <p:cNvPicPr/>
          <p:nvPr/>
        </p:nvPicPr>
        <p:blipFill>
          <a:blip r:embed="rId1"/>
          <a:stretch/>
        </p:blipFill>
        <p:spPr>
          <a:xfrm>
            <a:off x="838080" y="946080"/>
            <a:ext cx="760104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0" y="644364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blog.savcds.org/harrison/files/2010/03/675px-EM_Spectrum_Properties_edit.svg.p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675px-EM_Spectrum_Properties_edit.png"/>
          <p:cNvPicPr/>
          <p:nvPr/>
        </p:nvPicPr>
        <p:blipFill>
          <a:blip r:embed="rId1"/>
          <a:stretch/>
        </p:blipFill>
        <p:spPr>
          <a:xfrm>
            <a:off x="285840" y="888840"/>
            <a:ext cx="857232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3200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Solar radiation enters the Earth’s atmosp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Earth’s surface converts solar radiation into he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Earth radiates heat to atmosp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Gases in atmosphere absorb the he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066680" y="65502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enwin.com/kids/images/pic.greenhouse_effect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pic.greenhouse_effect.jpg"/>
          <p:cNvPicPr/>
          <p:nvPr/>
        </p:nvPicPr>
        <p:blipFill>
          <a:blip r:embed="rId1"/>
          <a:stretch/>
        </p:blipFill>
        <p:spPr>
          <a:xfrm>
            <a:off x="3463920" y="685800"/>
            <a:ext cx="56800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53337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What type of energy reaches the Earth’s surf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. Visible Light and UV l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066680" y="65502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enwin.com/kids/images/pic.greenhouse_effect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pic.greenhouse_effect.jpg"/>
          <p:cNvPicPr/>
          <p:nvPr/>
        </p:nvPicPr>
        <p:blipFill>
          <a:blip r:embed="rId1"/>
          <a:stretch/>
        </p:blipFill>
        <p:spPr>
          <a:xfrm>
            <a:off x="1787400" y="674640"/>
            <a:ext cx="5680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53337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AutoNum type="alphaU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What type of energy is re-radiated by the Earth’s surfa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. Infrared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066680" y="655020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enwin.com/kids/images/pic.greenhouse_effect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pic.greenhouse_effect.jpg"/>
          <p:cNvPicPr/>
          <p:nvPr/>
        </p:nvPicPr>
        <p:blipFill>
          <a:blip r:embed="rId1"/>
          <a:stretch/>
        </p:blipFill>
        <p:spPr>
          <a:xfrm>
            <a:off x="1787400" y="674640"/>
            <a:ext cx="5680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house Effec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5" name="Picture 4" descr="FIGURESCIRCACTIVITY.png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7:17:11Z</dcterms:created>
  <dc:creator>Julie Libarkin</dc:creator>
  <dc:description/>
  <dc:language>en-US</dc:language>
  <cp:lastModifiedBy>Nicole LaDue</cp:lastModifiedBy>
  <dcterms:modified xsi:type="dcterms:W3CDTF">2010-12-16T20:46:06Z</dcterms:modified>
  <cp:revision>308</cp:revision>
  <dc:subject/>
  <dc:title>PowerPoint Presentation</dc:title>
</cp:coreProperties>
</file>